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37116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14560" y="937080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5FB80BB3-F9B8-4359-8858-43C06707596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E59BC6A2-F7AF-4A46-B21B-9D32EB4E526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D423A2C5-A97F-4973-ACDF-F15C4A56EB4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9B7701DA-5B83-4C9A-BC03-7C2143FB404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34F8C291-70C9-483A-9723-C8E4563997F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69CD28EB-CF35-43EE-9A1A-3A47C23A411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65DD6B3C-C798-45E8-B367-866E1155278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29D4-FE0B-4A68-A5DD-8C995703E8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78C9F-D1FD-4ABE-960F-25384D17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C927-71CA-4175-A477-F660264B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6FAF-0D6C-4531-B0EF-8C267A8043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241D-12D2-4EA1-B9F5-19E7BE09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443FC-E01C-4162-BEB7-3F029DC0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B664-F229-4C7F-933F-25DC8362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923F-3148-41C7-8BAB-122ECAD1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6FFF-05E7-4A63-A9C6-F3968F0F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FBD71-630A-48B3-A7E5-FB460BC0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099E2-7B3B-4558-90BB-DFF712B1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EC8D2-2C8A-4BBF-9289-3E14449A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9.08.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9B1430-5AA7-4992-B604-871BDFC96D46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23880" y="12445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рожная карта»                                                                                                                                                              План мероприятий по реализации проекта «Бережливая поликлиника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ударственном бюджетном учреждении здравоохранения                                                                             «ГБУЗ Кузнецкая межрайонная больница» поликлиника №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2093760"/>
          <a:ext cx="8624880" cy="3341880"/>
        </p:xfrm>
        <a:graphic>
          <a:graphicData uri="http://schemas.openxmlformats.org/drawingml/2006/table">
            <a:tbl>
              <a:tblPr/>
              <a:tblGrid>
                <a:gridCol w="390600"/>
                <a:gridCol w="2244600"/>
                <a:gridCol w="489240"/>
                <a:gridCol w="377640"/>
                <a:gridCol w="392040"/>
                <a:gridCol w="384480"/>
                <a:gridCol w="4348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</a:tblGrid>
              <a:tr h="6318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04.02 по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6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2 государственном бюджетном учреждении здравоохранения  «Кузнецкая межрайонная больница» рабочую группу по реализации проекта «Бережливая поликлиника» на территории поликлиники№2 (далее – рабочая группа), определить лидеров проектов по направления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едставить на обсуждение рабочей группы макеты  коррекции регистратуры поликлиники и кабинета профилакти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ить сбор информации о ключевых проблемах в организации работы поликлиники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для сдачи биологических жидкостей на анализ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на проведение 1 этапа диспансеризаци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61"/>
          <p:cNvSpPr/>
          <p:nvPr/>
        </p:nvSpPr>
        <p:spPr>
          <a:xfrm>
            <a:off x="569880" y="0"/>
            <a:ext cx="8394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рач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З « Кузнецкая межрайонная больниц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пов А.В.  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62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6880" y="544680"/>
          <a:ext cx="8433000" cy="4601880"/>
        </p:xfrm>
        <a:graphic>
          <a:graphicData uri="http://schemas.openxmlformats.org/drawingml/2006/table">
            <a:tbl>
              <a:tblPr/>
              <a:tblGrid>
                <a:gridCol w="411480"/>
                <a:gridCol w="2100240"/>
                <a:gridCol w="482400"/>
                <a:gridCol w="372960"/>
                <a:gridCol w="387360"/>
                <a:gridCol w="381240"/>
                <a:gridCol w="425520"/>
                <a:gridCol w="357120"/>
                <a:gridCol w="350640"/>
                <a:gridCol w="352440"/>
                <a:gridCol w="351000"/>
                <a:gridCol w="352440"/>
                <a:gridCol w="350640"/>
                <a:gridCol w="352440"/>
                <a:gridCol w="352440"/>
                <a:gridCol w="351000"/>
                <a:gridCol w="352440"/>
                <a:gridCol w="34920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.02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сотрудников поликлиники для выявления ключевых проблем организации рабочего процесс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5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 об удовлетворенности пациентов поликлиники оказанной медицинской помощь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5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бор ключевых проблем и целей для запуска проекта «Бережливая поликлиника» на собрании коллектива медицинской организа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уровня вовлеченности сотрудников поликлиники до запуска проек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актического плана реализ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26880" y="544680"/>
          <a:ext cx="8285400" cy="249696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.02-08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8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и обсуждение полученных результатов на совещаниях  рабочей групп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совещаний  рабочей группы по выполнению поставленных зад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ение ориентировочной сметы расходов на реализацию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6880" y="544680"/>
          <a:ext cx="8285400" cy="3203280"/>
        </p:xfrm>
        <a:graphic>
          <a:graphicData uri="http://schemas.openxmlformats.org/drawingml/2006/table">
            <a:tbl>
              <a:tblPr/>
              <a:tblGrid>
                <a:gridCol w="403200"/>
                <a:gridCol w="2041560"/>
                <a:gridCol w="49716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 работы новых условия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1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ение  дополнительных посадочных мест для пациен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тение в кабинет прфилактики мебели (стулья, столы, ширма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26880" y="544680"/>
          <a:ext cx="8285400" cy="282384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 информационного  сопровождения:                                        единый образец стенда расположения кабинетов, новый образец расписания по профилям медицинской помощи, единый образец стенда с нормативно-правовыми документами, стенд по независимой оценке каче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енное квотирование  для сдачи биологических жидкостей на анализ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6880" y="544680"/>
          <a:ext cx="8285400" cy="239688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50640"/>
                <a:gridCol w="3952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5317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8.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чет по реализации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ие результатов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185"/>
          <p:cNvSpPr/>
          <p:nvPr/>
        </p:nvSpPr>
        <p:spPr>
          <a:xfrm>
            <a:off x="581040" y="5900760"/>
            <a:ext cx="80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уководитель проектного офиса           зав.  поликлиникой № 2 Приступ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user</cp:lastModifiedBy>
  <cp:lastPrinted>2018-01-18T10:20:20Z</cp:lastPrinted>
  <dcterms:modified xsi:type="dcterms:W3CDTF">2019-02-04T13:41:49Z</dcterms:modified>
  <cp:revision>349</cp:revision>
  <dc:subject/>
  <dc:title>Слайд 1</dc:title>
</cp:coreProperties>
</file>