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F17469C-CBD2-4D0F-AD0C-ADE30C4288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F49DF668-D3A0-458D-895B-5F7C72061E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87C557D8-F034-4692-84A3-16FDA5965C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E586-3248-4371-944F-6CF10ACE6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611A-37E6-45E7-B7C1-878EBE56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CC67-96CE-4181-9616-ED8754D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1235-570D-45B1-B127-6A35CB9B13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0924-9F8E-4F04-B296-FBBB0AB2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DD37-F2AB-4B25-BEF3-0902E7F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0439-97A2-4A08-ACB7-354DA7B2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FA03-0099-44F6-846A-92AAD79F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62D7-E957-42E8-A743-A7C099AC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EE07-C9C6-4402-9F63-E2666ADE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7DF4-DF51-4255-AA3A-C2047276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FA6E-4E8F-4327-A73B-953BB3A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DF2899-438C-4878-B5DD-16D80C89B0C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«ГБУЗ Кузнецкая межрайонная больница» поликлиника №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ВАРТАЛ 2019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9736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404640"/>
                <a:gridCol w="365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1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1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регистратуры поликлиники с учетом принятых решений о расширении зон ожидания пациентов (ул. Правды,1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 перечня проблем, требующих реш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кабинета для реализации проекта по внедрению системы 5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рабочей группы  поликлиники 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регламентирующей документации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фотофиксацию до начала проекта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лист предложений и лист проблем для сотрудник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ть заявку на недостающее оборудова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285400" cy="48542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-19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28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снове выявленных проблем составить детальный план мероприятий согласно системе 5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работы по внедрению 5С на рабочем месте врача терапевта и врача общей практики в кабинете №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ить эффективность улучшенных процессов. При необходимости внести корректировку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ить отчет о проделан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9-02-04T11:58:58Z</cp:lastPrinted>
  <dcterms:modified xsi:type="dcterms:W3CDTF">2019-02-04T11:38:15Z</dcterms:modified>
  <cp:revision>342</cp:revision>
  <dc:subject/>
  <dc:title>Слайд 1</dc:title>
</cp:coreProperties>
</file>