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E67A7E2-4C1E-4CB3-A5EA-417229EE1D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D2CEE7E-43D4-4218-A5F3-4262774209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CA4293D9-07EB-43D5-8EB1-E1C1E05626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1D15513D-68D1-4B77-AED7-1D8D8E7338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FFE5001-9505-4016-BA25-17CC6EB6F7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350D285-5756-42E5-9FE1-10E8976B22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E69CA43-0B0F-45C6-8842-BBAB446DEF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3DEC-407E-404A-AD3A-A9DC8EE60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A3E5-88A4-4CEA-9C7E-45C826F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1522-8CC1-4412-8382-9B9A1E6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BD4A-53D7-4F88-8BA6-A23549DC5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3B14-9BBA-4003-BE27-BF8BA01B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1F99-6B3C-4CF6-A39E-3D56C778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3FCC-6D6A-42E2-B142-E515D107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23DC-8C2E-4128-BEDD-D02BE038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5BDA-27C4-4A21-BDE8-72774F07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7B9E-6393-4F22-AF8B-087D381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93E5-96FB-426F-AB02-47C3979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A549-4E04-4F2B-A672-27647A9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A1F023-ED58-4ADC-AF1B-D0EA5B12A9F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 мероприятий по реализации проекта 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БУЗ Кузнецкая межрайонная больница» поликлиника №4 на 1 квартал 2019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0052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-29.03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4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4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процедурного кабинета поликлиники №4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 для забора крови.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337644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.02.-06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02-07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.-12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процедурного кабинета в новых условиях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репланировка регистратуры поликлиники № 4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овая организация простран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ого  пространства (площадей) для ожидания пациентов, обеспечение посадочными  мест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 медицинской мебели в процедурный кабинет (манипуляционные столик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04120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.-20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(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03.-29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ного офиса           зав.  поликлиникой № 4                          Бондаренко С.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pol4-stm</cp:lastModifiedBy>
  <cp:lastPrinted>2018-01-18T10:20:20Z</cp:lastPrinted>
  <dcterms:modified xsi:type="dcterms:W3CDTF">2019-02-04T12:15:47Z</dcterms:modified>
  <cp:revision>344</cp:revision>
  <dc:subject/>
  <dc:title>Слайд 1</dc:title>
</cp:coreProperties>
</file>