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4AC-A4C3-4F0A-B15C-F5E92E21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8D7-09D2-493E-AB9D-04CFF5CE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DD4-F7F0-451D-84C9-B8F35150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592-AFAA-4969-A60F-4612848E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C58-E43A-465D-9143-6D2915CE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592-188C-46E7-A691-96182EF8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813-FDD4-4EA9-990B-773F162C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D2C-88CA-4297-A8E8-D43CFAE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CC0-35E4-4AC9-A6BE-A2902EC5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D88-A378-4F48-AA7F-474FF35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694-FC69-4DBC-B738-15D33C44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15B-D16F-4EBD-B18A-23B71F9A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0979-0634-428D-BFEE-C96E824FB3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640-441C-41F9-B775-486037371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1376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проек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новой модели медицинской организации/, оказывающей первичную медико-санитарную помощь» в «ГБУЗ Кузнецкая межрайонная больница», поликлиника №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6120" y="2093760"/>
          <a:ext cx="8526600" cy="468504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30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6303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-10.02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-17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-25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2-03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3.-1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3 государственном бюджетном учреждении здравоохранения  Кузнецкая межрайонная больница рабочую группу по реализации приоритетного проекта «Создание новой модели медицинской организации, оказывающей первичную медико-санитарную   помощь» на территории поликлиники№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лидеров рабочей группы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сти анкетирование сотрудников, выбрать ключевые проблемы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овести анкетирование о здоровом образе жи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направление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ТП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ориентированную смету расходов на реализацию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Заголовок 1"/>
          <p:cNvSpPr/>
          <p:nvPr/>
        </p:nvSpPr>
        <p:spPr>
          <a:xfrm>
            <a:off x="5367240" y="76320"/>
            <a:ext cx="34290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Потапов А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04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врал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6880" y="544680"/>
          <a:ext cx="8431200" cy="3767040"/>
        </p:xfrm>
        <a:graphic>
          <a:graphicData uri="http://schemas.openxmlformats.org/drawingml/2006/table">
            <a:tbl>
              <a:tblPr/>
              <a:tblGrid>
                <a:gridCol w="411480"/>
                <a:gridCol w="2098440"/>
                <a:gridCol w="484200"/>
                <a:gridCol w="372960"/>
                <a:gridCol w="387360"/>
                <a:gridCol w="381240"/>
                <a:gridCol w="423720"/>
                <a:gridCol w="35712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2440"/>
                <a:gridCol w="351000"/>
                <a:gridCol w="350640"/>
              </a:tblGrid>
              <a:tr h="7887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3-22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-30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5-08.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членов рабочей группы  по выбранному направл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обсуждение полученных результа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93560" y="5475240"/>
          <a:ext cx="7013880" cy="297000"/>
        </p:xfrm>
        <a:graphic>
          <a:graphicData uri="http://schemas.openxmlformats.org/drawingml/2006/table">
            <a:tbl>
              <a:tblPr/>
              <a:tblGrid>
                <a:gridCol w="7013880"/>
              </a:tblGrid>
              <a:tr h="2970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ководитель проекта                                          зав. поликлиникой   И.В. Арханге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26T11:59:56Z</cp:lastPrinted>
  <dcterms:modified xsi:type="dcterms:W3CDTF">2019-02-04T13:08:13Z</dcterms:modified>
  <cp:revision>350</cp:revision>
  <dc:subject/>
  <dc:title>Слайд 1</dc:title>
</cp:coreProperties>
</file>