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A953BBC-DC69-4ACF-BC18-323773BA7E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743FDB6-1620-4D7E-9FB8-CCF32F599B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581D25CA-8DBE-4870-AA12-9BB791D1F8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FD577F91-9CF8-49F0-A3FF-D0BEA62845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3C09CA1-329A-488E-B689-D2EB65CB1A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3F348B9-AAF8-4302-BF39-BA37F50FEA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05AD475-54D3-4A4D-BE14-36458EB9BA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7E0D-5D65-49E3-889C-002BB3136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4B4B-F937-41F2-A0C7-E238E29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8F4C-1C4F-4C71-8369-157BFBE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9FDA-C9F7-4186-8618-E43D26F65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0B84-98A5-40FA-9498-0B9ADD9C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A235-12F1-44B5-9EF3-6DAEE27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CED6-364E-4469-A058-30A06E9A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DF01-7696-4AC7-9EE7-42D56B55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AE57-9FE4-4740-9B36-9DE2CBE9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5C9C-7F96-4547-A319-6FE2C627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CC67-A449-4EFF-95E1-F9830524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2E51-5197-4321-8C07-A6CBC3C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E8F7CE-0616-4A20-9808-81369FB7C60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 мероприятий по реализации проекта 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БУЗ Кузнецкая межрайонная больница» поликлиника №4 на 1 квартал 2019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0052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-29.03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4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4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процедурного кабинета поликлиники №4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 для забора крови.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337644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.02.-06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02-07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.-12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процедурного кабинета в новых условиях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репланировка регистратуры поликлиники № 4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овая организация простран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ого  пространства (площадей) для ожидания пациентов, обеспечение посадочными  мест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 медицинской мебели в процедурный кабинет (манипуляционные столик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04120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.-20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(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03.-29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ного офиса           зав.  поликлиникой № 4                          Бондаренко С.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pol4-stm</cp:lastModifiedBy>
  <cp:lastPrinted>2018-01-18T10:20:20Z</cp:lastPrinted>
  <dcterms:modified xsi:type="dcterms:W3CDTF">2019-02-04T12:15:47Z</dcterms:modified>
  <cp:revision>344</cp:revision>
  <dc:subject/>
  <dc:title>Слайд 1</dc:title>
</cp:coreProperties>
</file>