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35600" cy="986940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9400"/>
              <a:gd name="textAreaBottom" fmla="*/ 9869040 h 9869400"/>
            </a:gdLst>
            <a:ahLst/>
            <a:rect l="textAreaLeft" t="textAreaTop" r="textAreaRight" b="textAreaBottom"/>
            <a:pathLst>
              <a:path w="21600" h="31649">
                <a:moveTo>
                  <a:pt x="5" y="0"/>
                </a:moveTo>
                <a:arcTo wR="5" hR="5" stAng="16200000" swAng="-5400000"/>
                <a:lnTo>
                  <a:pt x="0" y="31644"/>
                </a:lnTo>
                <a:arcTo wR="5" hR="5" stAng="10800000" swAng="-5400000"/>
                <a:lnTo>
                  <a:pt x="21595" y="316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280" rIns="892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37404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14560" y="937368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BBE6B04C-DAC2-4D52-B3EF-5F1CBA208F1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336F9804-9F6E-45E3-8803-46E6B473E9C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422545FF-C19E-41B1-8E6B-1824D7BE3FA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1D1DB-D5C4-42F8-822C-65E49B05A0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ADA40-3402-49CA-A0BD-81E0B6D2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55441-D0CD-45B3-AE99-F1911C96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0296D-B15D-4D62-BD01-408317D056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F6B18-2161-4AE1-8D2A-B76AC332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46D74-B4A5-431A-AEA9-259F6E96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6E67A-561A-40CD-A037-A54CD29B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C9D40-FD81-4432-8AB6-A0C0F33E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E0817-80D4-4CB0-BAC8-E5ED470C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E993D-FCB7-4980-A228-66196F38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EB055-9871-428F-AC09-6E5D86EB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51024-CE82-47BB-9FC0-D6EC2B0C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9.08.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9AAB2C-965C-4FB5-B539-2C3838D2EC65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23880" y="124452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рожная карта»  План мероприятий по реализации проекта «Бережливая поликлиника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ударственном бюджетном учреждении здравоохранения «ГБУЗ Кузнецкая межрайонная больница» поликлиника №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КВАРТАЛ 2019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76120" y="2093760"/>
          <a:ext cx="8528040" cy="3897360"/>
        </p:xfrm>
        <a:graphic>
          <a:graphicData uri="http://schemas.openxmlformats.org/drawingml/2006/table">
            <a:tbl>
              <a:tblPr/>
              <a:tblGrid>
                <a:gridCol w="293760"/>
                <a:gridCol w="2244600"/>
                <a:gridCol w="489240"/>
                <a:gridCol w="404640"/>
                <a:gridCol w="365040"/>
                <a:gridCol w="384480"/>
                <a:gridCol w="434880"/>
                <a:gridCol w="35568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680"/>
                <a:gridCol w="355320"/>
              </a:tblGrid>
              <a:tr h="63180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1.20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1.2019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0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в поликлинике №1 государственном бюджетном учреждении здравоохранения  Кузнецкая межрайонная больница рабочую группу по реализации пилотного проекта «Бережливая поликлиника» на территории поликлиники№1 (далее – рабочая группа), определить лидеров проектов по направления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ать и представить на обсуждение рабочей группы макет планировки регистратуры поликлиники с учетом принятых решений о расширении зон ожидания пациентов (ул. Правды,13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ование перечня проблем, требующих реш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ор кабинета для реализации проекта по внедрению системы 5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учение рабочей группы  поликлиники 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 регламентирующей документации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сти фотофиксацию до начала проекта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едрить лист предложений и лист проблем для сотруднико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делать заявку на недостающее оборудовани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461"/>
          <p:cNvSpPr/>
          <p:nvPr/>
        </p:nvSpPr>
        <p:spPr>
          <a:xfrm>
            <a:off x="569880" y="165240"/>
            <a:ext cx="342900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врач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УЗ « Кузнецкая межрайонная больниц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апов А.В.  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62"/>
          <p:cNvSpPr/>
          <p:nvPr/>
        </p:nvSpPr>
        <p:spPr>
          <a:xfrm>
            <a:off x="5519880" y="176040"/>
            <a:ext cx="3124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6880" y="544680"/>
          <a:ext cx="8285400" cy="485424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-19.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28.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Тактического плана реализаци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основе выявленных проблем составить детальный план мероприятий согласно системе 5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сти работы по внедрению 5С на рабочем месте врача терапевта и врача общей практики в кабинете №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ить эффективность улучшенных процессов. При необходимости внести корректировку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ить отчет о проделанной работ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9:01:08Z</dcterms:created>
  <dc:creator>Румянцева Луиза Марсовна</dc:creator>
  <dc:description/>
  <dc:language>en-US</dc:language>
  <cp:lastModifiedBy>user</cp:lastModifiedBy>
  <cp:lastPrinted>2019-02-04T11:58:58Z</cp:lastPrinted>
  <dcterms:modified xsi:type="dcterms:W3CDTF">2019-02-04T11:38:15Z</dcterms:modified>
  <cp:revision>342</cp:revision>
  <dc:subject/>
  <dc:title>Слайд 1</dc:title>
</cp:coreProperties>
</file>