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116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080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B1DAD719-E3AD-4CA7-9195-63D79D2C8EF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3D79EFE5-43F2-44B8-8541-D32AA77F94F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7A58BC95-E580-4E93-939C-C703355CA7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8FCB1325-59DF-43CF-BC0E-4F322F4E41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FE1A7E25-7BC6-4453-A29F-FA96955549F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37971825-D43D-4772-B520-97FEC3D133B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D0C4DB59-55B2-40D7-A43F-0E6D7FC2054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8248-E38F-4653-9881-58102273B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5D22-92D4-46A7-8199-458E744F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1437-BC7F-48EB-A9ED-7CEAD78D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611F-53B2-4D5B-B45F-71F677942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E65D-6763-4EA1-96C3-119F1025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6DB8-7464-4FE1-A061-4E902FFD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156A-48AD-4E03-847B-05B743B4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0757-3217-4367-98C5-78CBA5CF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34C1-23E9-41A7-ACF1-943176AE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9472-5334-4E84-8CF3-973C95A1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09C0-4E5E-403E-BF60-422B8A0A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F578-C0AB-4C10-985D-0B724178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DD2484-ACF2-4A53-8FE9-5AF07EF0E8A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жная карта»                                                                                                                                                              План мероприятий по реализации проекта «Бережливая поликлиника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                                                                             «ГБУЗ Кузнецкая межрайонная больница» поликлиника №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2093760"/>
          <a:ext cx="8624880" cy="3341880"/>
        </p:xfrm>
        <a:graphic>
          <a:graphicData uri="http://schemas.openxmlformats.org/drawingml/2006/table">
            <a:tbl>
              <a:tblPr/>
              <a:tblGrid>
                <a:gridCol w="390600"/>
                <a:gridCol w="2244600"/>
                <a:gridCol w="489240"/>
                <a:gridCol w="377640"/>
                <a:gridCol w="392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04.02 по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2 государственном бюджетном учреждении здравоохранения  «Кузнецкая межрайонная больница» рабочую группу по реализации проекта «Бережливая поликлиника» на территории поликлиники№2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ы  коррекции регистратуры поликлиники и кабинета профилак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ить сбор информации о ключевых проблемах в организации работы поликлиники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для сдачи биологических жидкостей на анализ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на проведение 1 этапа диспансеризаци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0"/>
            <a:ext cx="8394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А.В.  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433000" cy="4601880"/>
        </p:xfrm>
        <a:graphic>
          <a:graphicData uri="http://schemas.openxmlformats.org/drawingml/2006/table">
            <a:tbl>
              <a:tblPr/>
              <a:tblGrid>
                <a:gridCol w="411480"/>
                <a:gridCol w="2100240"/>
                <a:gridCol w="482400"/>
                <a:gridCol w="372960"/>
                <a:gridCol w="387360"/>
                <a:gridCol w="381240"/>
                <a:gridCol w="425520"/>
                <a:gridCol w="357120"/>
                <a:gridCol w="350640"/>
                <a:gridCol w="352440"/>
                <a:gridCol w="351000"/>
                <a:gridCol w="352440"/>
                <a:gridCol w="350640"/>
                <a:gridCol w="352440"/>
                <a:gridCol w="352440"/>
                <a:gridCol w="351000"/>
                <a:gridCol w="352440"/>
                <a:gridCol w="34920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сотрудников поликлиники для выявления ключевых проблем организации рабочего проце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 об удовлетворенности пациентов поликлиники оказанной медицинской помощь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ор ключевых проблем и целей для запуска проекта «Бережливая поликлиника» на собрании коллектива медицинской организ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уровня вовлеченности сотрудников поликлиники до запуска проек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6880" y="544680"/>
          <a:ext cx="8285400" cy="249696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.02-08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 обсуждение полученных результатов на совещаниях  рабочей групп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совещаний  рабочей группы по выполнению поставленных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ориентировочной сметы расходов на реализац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6880" y="544680"/>
          <a:ext cx="8285400" cy="3203280"/>
        </p:xfrm>
        <a:graphic>
          <a:graphicData uri="http://schemas.openxmlformats.org/drawingml/2006/table">
            <a:tbl>
              <a:tblPr/>
              <a:tblGrid>
                <a:gridCol w="403200"/>
                <a:gridCol w="2041560"/>
                <a:gridCol w="49716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 работы новых условия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ение  дополнительных посадочных мест для пациен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в кабинет прфилактики мебели (стулья, столы, ширма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6880" y="544680"/>
          <a:ext cx="8285400" cy="282384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информационного  сопровождения:                                        единый образец стенда расположения кабинетов, новый образец расписания по профилям медицинской помощи, единый образец стенда с нормативно-правовыми документами, стенд по независимой оценке каче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енное квотирование  для сдачи биологических жидкостей на анализ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6880" y="544680"/>
          <a:ext cx="8285400" cy="23968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50640"/>
                <a:gridCol w="3952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5317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.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чет по реализации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85"/>
          <p:cNvSpPr/>
          <p:nvPr/>
        </p:nvSpPr>
        <p:spPr>
          <a:xfrm>
            <a:off x="581040" y="590076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уководитель проектного офиса           зав.  поликлиникой № 2 Приступ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8-01-18T10:20:20Z</cp:lastPrinted>
  <dcterms:modified xsi:type="dcterms:W3CDTF">2019-02-04T13:41:49Z</dcterms:modified>
  <cp:revision>349</cp:revision>
  <dc:subject/>
  <dc:title>Слайд 1</dc:title>
</cp:coreProperties>
</file>