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4A2-5C01-4603-9A69-82F4666E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5BB-2EC6-45DC-8C38-128EDBA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8F3-94D7-4518-9E78-6638EFC5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853-D860-41A8-B6B7-EE707EC7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709-A04D-45D5-A8A3-194EB563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E68-7698-484E-9BA1-FE9F7CA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5DA-7639-4DA4-A745-FD2E388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5FD-C8AD-4504-9845-6BD7834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298-FBE6-4203-8C33-C0DEC02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36C-FA90-4D37-A31B-330F148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79F-E3D8-4842-947C-82D22FA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3E7-6A40-4326-85D8-A1599FC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A935-313F-4E22-B0F9-681C034413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141-DBBE-4159-8694-9B9F1C81F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13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проек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новой модели медицинской организации/, оказывающей первичную медико-санитарную помощь» в «ГБУЗ Кузнецкая межрайонная больница», поликлиника №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6120" y="2093760"/>
          <a:ext cx="8526600" cy="468504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30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6303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-10.02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-17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-25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2-03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3.-1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3 государственном бюджетном учреждении здравоохранения  Кузнецкая межрайонная больница рабочую группу по реализации приоритетного проекта «Создание новой модели медицинской организации, оказывающей первичную медико-санитарную   помощь» на территории поликлиники№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лидеров рабочей группы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сти анкетирование сотрудников, выбрать ключевые проблемы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овести анкетирование о здоровом образе жи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направление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ТП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ориентированную смету расходов на реализацию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Заголовок 1"/>
          <p:cNvSpPr/>
          <p:nvPr/>
        </p:nvSpPr>
        <p:spPr>
          <a:xfrm>
            <a:off x="5367240" y="76320"/>
            <a:ext cx="3429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Потапов А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04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врал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6880" y="544680"/>
          <a:ext cx="8431200" cy="3767040"/>
        </p:xfrm>
        <a:graphic>
          <a:graphicData uri="http://schemas.openxmlformats.org/drawingml/2006/table">
            <a:tbl>
              <a:tblPr/>
              <a:tblGrid>
                <a:gridCol w="411480"/>
                <a:gridCol w="2098440"/>
                <a:gridCol w="484200"/>
                <a:gridCol w="372960"/>
                <a:gridCol w="387360"/>
                <a:gridCol w="381240"/>
                <a:gridCol w="423720"/>
                <a:gridCol w="35712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2440"/>
                <a:gridCol w="351000"/>
                <a:gridCol w="350640"/>
              </a:tblGrid>
              <a:tr h="7887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3-22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-3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5-08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членов рабочей группы  по выбранному направл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обсуждение полученных результ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93560" y="5475240"/>
          <a:ext cx="7013880" cy="297000"/>
        </p:xfrm>
        <a:graphic>
          <a:graphicData uri="http://schemas.openxmlformats.org/drawingml/2006/table">
            <a:tbl>
              <a:tblPr/>
              <a:tblGrid>
                <a:gridCol w="7013880"/>
              </a:tblGrid>
              <a:tr h="2970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ководитель проекта                                          зав. поликлиникой   И.В. Арханг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26T11:59:56Z</cp:lastPrinted>
  <dcterms:modified xsi:type="dcterms:W3CDTF">2019-02-04T13:08:13Z</dcterms:modified>
  <cp:revision>350</cp:revision>
  <dc:subject/>
  <dc:title>Слайд 1</dc:title>
</cp:coreProperties>
</file>